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6CD8-403D-4D70-A4D1-83977B0C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F83E-377E-42CD-BE91-6C7EAE61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09AE-2DF1-49AC-B627-32FBB26D9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86E-FE65-4BC8-990B-62F6588C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EBE4-051B-40CF-8E63-533BA106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5720-E618-446A-A576-8996155F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7FB-9867-45BB-B767-1C432ABB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ED91-039D-45E3-8BD0-C88DAAC6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26DD-20E5-4779-BCB1-375CF8DE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6F00-DB73-4236-ABE1-F4D1C4BC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C866-AFF5-4783-BC41-EF1C1DC8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C8B7-07B8-48E5-B031-C357DEDE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B84E-36B5-4F10-A60A-F7A70274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1902B-ADB9-49E9-9939-6EE455E2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A4B2-1662-4962-8A7A-F9DE63B98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0BFF-D215-4500-9425-1ADF65D1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AC30-93FB-4E9D-8E9F-EC6BB68EC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5D555-F81A-42D5-9A91-4B26D72A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75A5F-259B-400E-A4E6-97E38B37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284060-22F5-416B-AE2D-E07312E0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445C9E-FC6E-4819-9754-04D34837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22AAE-3B91-4BA1-B7C7-98A792EB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F77-48A1-46F9-AB22-9DBA2DDB1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9A47DD-B001-4545-AAA7-61D06BD4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0CD1E-ED12-4067-AB10-6A937DA5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B6C11F-3245-40E8-891F-3D35EB1B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B733D-2233-44C7-B69F-A2682D0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2743B-2EA6-4BFC-A877-31D3FB88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CA895-29E5-45CD-8AD8-6D57D414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D7B5F-7EE1-4762-8D64-0E58E5499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2FBA-FA94-454A-8B44-F2A8CEC3C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3B347-EC11-431C-B058-D96FB96B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67CAA-1ECE-4187-AF27-9B378C28C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4148-A40C-43FF-A41D-9C4F7F4F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D846F-5AAD-4B43-9A8B-159615FD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ED549-DF6B-4391-A59F-98EA72A3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EB8B-CF47-475B-8174-172F3E95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970B-244F-4DDD-A574-F0215200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07997-89EB-4BAB-9A7B-55836A84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27DEA-3C46-4EE1-995B-D5BB7205C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FD12B-2780-4EEE-AABF-99C81131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66BF0-75B0-4388-AF21-A38E269F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A934E-DEF4-44D7-8CC6-FCB006368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AB01-5B70-4AEF-8831-BFBC87D5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B4B9-0E7B-4276-A05E-76B3BA73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A69F-EC0E-41C0-9DBE-CA6AF9B0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317-589A-468E-9680-D309444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FCF-6A75-4AC4-9B4F-95C689F2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EF002-A59C-4717-A5F3-A90E46DF824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531B05-2092-425E-9803-6CA902DBDE90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53CAF-4AA5-4698-9190-91B9981FF89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4404F-281E-440C-9978-A587A67A9C18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7vXNxQFl1m0&amp;feature=youtube_gdata_player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4CJWjvWRzHs&amp;feature=youtube_gdata_player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outube.com/watch?v=7NT1Dt_1FaY&amp;feature=youtube_gdata_player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youtube.com/watch?v=proFVv9AKu8&amp;feature=youtube_gdata_player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youtube.com/watch?v=NLJB66YWLG8&amp;feature=youtube_gdata_player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oodletools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noodletools.com/" TargetMode="External"/><Relationship Id="rId4" Type="http://schemas.openxmlformats.org/officeDocument/2006/relationships/hyperlink" Target="http://www.youtube.com/watch?v=ahJGDs-DHKU&amp;feature=youtube_gdata_player" TargetMode="External"/><Relationship Id="rId5" Type="http://schemas.openxmlformats.org/officeDocument/2006/relationships/hyperlink" Target="http://www.youtube.com/watch?v=ahJGDs-DHKU&amp;feature=youtube_gdata_player" TargetMode="External"/><Relationship Id="rId6" Type="http://schemas.openxmlformats.org/officeDocument/2006/relationships/hyperlink" Target="http://www.youtube.com/watch?v=ahJGDs-DHKU&amp;feature=youtube_gdata_player" TargetMode="External"/><Relationship Id="rId7" Type="http://schemas.openxmlformats.org/officeDocument/2006/relationships/hyperlink" Target="http://www.youtube.com/watch?v=ahJGDs-DHKU&amp;feature=youtube_gdata_player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youtube.com/watch?v=zmRv--YQfjk&amp;feature=youtube_gdata_player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Research Paper on a Physical Science Topic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Joan Kanya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Margaret Hickey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93360" y="1026720"/>
            <a:ext cx="7831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nd Sharing Projec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o create a New Project—click on green plus sign that says “Create New Project”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ake sure to share project with teacher in the 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correc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drop box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Creating New Project and Sharing with the Drop Box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 u="sng">
                <a:solidFill>
                  <a:srgbClr val="3e3d2d"/>
                </a:solidFill>
                <a:uFillTx/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61" name="Picture 3" descr="Dropbox.png"/>
          <p:cNvPicPr/>
          <p:nvPr/>
        </p:nvPicPr>
        <p:blipFill>
          <a:blip r:embed="rId2"/>
          <a:stretch/>
        </p:blipFill>
        <p:spPr>
          <a:xfrm>
            <a:off x="6286680" y="4640400"/>
            <a:ext cx="1303200" cy="1303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 Bibliography Sour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hoose citation type from drop down menu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lick “Start Citation” button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hen carefully fill in all categories that apply to your sourc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ubmit” information when finished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1"/>
              </a:rPr>
              <a:t>How to Create a Bibliography Source on NoodleTools</a:t>
            </a: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 u="sng">
                <a:solidFill>
                  <a:srgbClr val="3e3d2d"/>
                </a:solidFill>
                <a:uFillTx/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1" descr="cutcaster-photo-100194658-Stack-of-Index-Cards.jpg"/>
          <p:cNvPicPr/>
          <p:nvPr/>
        </p:nvPicPr>
        <p:blipFill>
          <a:blip r:embed="rId1"/>
          <a:stretch/>
        </p:blipFill>
        <p:spPr>
          <a:xfrm>
            <a:off x="289080" y="326880"/>
            <a:ext cx="8407080" cy="62359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reating a Note Card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create a Note Card in NoodleTools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3" descr="bookstack.jpg"/>
          <p:cNvPicPr/>
          <p:nvPr/>
        </p:nvPicPr>
        <p:blipFill>
          <a:blip r:embed="rId1"/>
          <a:stretch/>
        </p:blipFill>
        <p:spPr>
          <a:xfrm>
            <a:off x="550800" y="457200"/>
            <a:ext cx="8047080" cy="64008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ibliographies on NoodleTools can be: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Creat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Exported as a documen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Print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Share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Create, Export, Print and Share Bibiiography</a:t>
            </a:r>
            <a:r>
              <a:rPr b="1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4c600"/>
                </a:solidFill>
                <a:latin typeface="Century Gothic"/>
              </a:rPr>
              <a:t>Bibliograph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1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10" fill="hold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1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10" fill="hold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1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10" fill="hold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1" descr="cutcaster-photo-100194658-Stack-of-Index-Cards.jpg"/>
          <p:cNvPicPr/>
          <p:nvPr/>
        </p:nvPicPr>
        <p:blipFill>
          <a:blip r:embed="rId1"/>
          <a:stretch/>
        </p:blipFill>
        <p:spPr>
          <a:xfrm>
            <a:off x="0" y="363600"/>
            <a:ext cx="9280440" cy="61261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How to Sort and Tag Note Cards in NoodleTools </a:t>
            </a:r>
            <a:r>
              <a:rPr b="0" lang="en-US" sz="1400" spc="-1" strike="noStrike" u="sng">
                <a:solidFill>
                  <a:srgbClr val="3e3d2d"/>
                </a:solidFill>
                <a:uFillTx/>
                <a:latin typeface="Century Gothic"/>
              </a:rPr>
              <a:t>(click on this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Sorting and Tagging Notecard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utlin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33520"/>
            <a:ext cx="67770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e3d2d"/>
                </a:solidFill>
                <a:uFillTx/>
                <a:latin typeface="Century Gothic"/>
              </a:rPr>
              <a:t>How to Create an Outline from Note Cards on NoodleTools</a:t>
            </a:r>
            <a:r>
              <a:rPr b="0" lang="en-US" sz="1400" spc="-1" strike="noStrike" u="sng">
                <a:solidFill>
                  <a:srgbClr val="3e3d2d"/>
                </a:solidFill>
                <a:uFillTx/>
                <a:latin typeface="Century Gothic"/>
              </a:rPr>
              <a:t> 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Note cards can easily be dragged to the outline template which quickly creates the topics and/or subtopics in your outli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             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reating a Paper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utilize your outline to help you set up the basic information for your pap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Just moving your outline to Google Docs does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NOT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make it a paper.  There needs to be major work done from this point to make it into a well-written, coherent paper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4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to Move Note Card Information to NoodleTools </a:t>
            </a:r>
            <a:r>
              <a:rPr b="0" lang="en-US" sz="14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77" name="Picture 1" descr="sample-research-paper.jpg"/>
          <p:cNvPicPr/>
          <p:nvPr/>
        </p:nvPicPr>
        <p:blipFill>
          <a:blip r:embed="rId1"/>
          <a:stretch/>
        </p:blipFill>
        <p:spPr>
          <a:xfrm>
            <a:off x="1042920" y="741240"/>
            <a:ext cx="215604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              </a:t>
            </a: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heck it Out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9512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ttp://www.history.com/shows/life-after-people/videos/life-after-people-the-making-of-life-after-peopl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3" descr="invention.jpg"/>
          <p:cNvPicPr/>
          <p:nvPr/>
        </p:nvPicPr>
        <p:blipFill>
          <a:blip r:embed="rId1"/>
          <a:stretch/>
        </p:blipFill>
        <p:spPr>
          <a:xfrm>
            <a:off x="4386240" y="4572000"/>
            <a:ext cx="3433680" cy="16635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What is a physics invention that has significantly affected your life and how was it created?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69840">
              <a:spcBef>
                <a:spcPts val="10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59880" y="10267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Research Question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71685a"/>
                                      </p:to>
                                    </p:animClr>
                                    <p:set>
                                      <p:cBhvr>
                                        <p:cTn id="13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18080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for Pap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 1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ainstorm for topic idea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t up NoodleTools account for anyone that doesn’t have o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Learn How to Use NoodleToo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e3d2d"/>
                </a:solidFill>
                <a:latin typeface="Century Gothic"/>
              </a:rPr>
              <a:t>Homework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: Finalize research topic</a:t>
            </a:r>
            <a:br>
              <a:rPr sz="2200"/>
            </a:b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2169720"/>
            <a:ext cx="677736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s 2-4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search in computer lab. Create note cards and citations on Noodle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2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t least 10 note cards on NoodleToo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3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t least 20 note cards on NoodleTools and complete your thesi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 4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-Share and Print Bibliograph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Timeline Cont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By end of Day 5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--Complete,  share, and print outlin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Homework Days 5 +6/Class Day 6--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paper based upon note cards and outline created in NoodleTools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Day 7—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per must be “shared” from Google Docs by the beginning of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Overall Rubric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7" name="Content Placeholder 1" descr="Research Paper Rubric.pdf"/>
          <p:cNvPicPr/>
          <p:nvPr/>
        </p:nvPicPr>
        <p:blipFill>
          <a:blip r:embed="rId1"/>
          <a:srcRect l="-21612" t="0" r="-21612" b="0"/>
          <a:stretch/>
        </p:blipFill>
        <p:spPr>
          <a:xfrm>
            <a:off x="-860400" y="1878120"/>
            <a:ext cx="11619000" cy="8770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7080"/>
            <a:ext cx="7024680" cy="6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HS Writing Rubric for Grade on the Actual Paper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9" name="Content Placeholder 6" descr="DHS Writing - Condensed Rubric copy.pdf"/>
          <p:cNvPicPr/>
          <p:nvPr/>
        </p:nvPicPr>
        <p:blipFill>
          <a:blip r:embed="rId1"/>
          <a:srcRect l="-42566" t="0" r="-42566" b="0"/>
          <a:stretch/>
        </p:blipFill>
        <p:spPr>
          <a:xfrm>
            <a:off x="-806400" y="1144440"/>
            <a:ext cx="11131560" cy="5864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ign-In to NoodleTools for the First Tim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Content Placeholder 3" descr="noodletools.jpg">
            <a:hlinkClick r:id="rId1"/>
          </p:cNvPr>
          <p:cNvPicPr/>
          <p:nvPr/>
        </p:nvPicPr>
        <p:blipFill>
          <a:blip r:embed="rId2"/>
          <a:srcRect l="0" t="17371" r="0" b="17371"/>
          <a:stretch/>
        </p:blipFill>
        <p:spPr>
          <a:xfrm>
            <a:off x="2889360" y="2324160"/>
            <a:ext cx="3333600" cy="977760"/>
          </a:xfrm>
          <a:prstGeom prst="rect">
            <a:avLst/>
          </a:prstGeom>
          <a:ln w="0">
            <a:noFill/>
          </a:ln>
        </p:spPr>
      </p:pic>
      <p:sp>
        <p:nvSpPr>
          <p:cNvPr id="352" name="TextBox 8"/>
          <p:cNvSpPr/>
          <p:nvPr/>
        </p:nvSpPr>
        <p:spPr>
          <a:xfrm>
            <a:off x="2889360" y="3543480"/>
            <a:ext cx="389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e68200"/>
                </a:solidFill>
                <a:uFillTx/>
                <a:latin typeface="Century Gothic"/>
                <a:hlinkClick r:id="rId3"/>
              </a:rPr>
              <a:t>http://www.noodletools.com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1771200" y="35434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ebsite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TextBox 10">
            <a:hlinkClick r:id="rId4"/>
          </p:cNvPr>
          <p:cNvSpPr/>
          <p:nvPr/>
        </p:nvSpPr>
        <p:spPr>
          <a:xfrm>
            <a:off x="880920" y="4260960"/>
            <a:ext cx="736632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e68200"/>
                </a:solidFill>
                <a:uFillTx/>
                <a:latin typeface="Century Gothic"/>
                <a:hlinkClick r:id="rId5"/>
              </a:rPr>
              <a:t>How to Sign-in for 1</a:t>
            </a:r>
            <a:r>
              <a:rPr b="0" lang="en-US" sz="1800" spc="-1" strike="noStrike" u="sng" baseline="30000">
                <a:solidFill>
                  <a:srgbClr val="e68200"/>
                </a:solidFill>
                <a:uFillTx/>
                <a:latin typeface="Century Gothic"/>
                <a:hlinkClick r:id="rId6"/>
              </a:rPr>
              <a:t>st</a:t>
            </a:r>
            <a:r>
              <a:rPr b="0" lang="en-US" sz="1800" spc="-1" strike="noStrike" u="sng" baseline="30000">
                <a:solidFill>
                  <a:srgbClr val="e68200"/>
                </a:solidFill>
                <a:uFillTx/>
                <a:latin typeface="Century Gothic"/>
                <a:hlinkClick r:id="rId7"/>
              </a:rPr>
              <a:t>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Make sure you sign in at school the first time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Use the same user name as you use for your school accoun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5187960" y="28116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56" name="Picture 4" descr="computer-pen-paper.jpg"/>
          <p:cNvPicPr/>
          <p:nvPr/>
        </p:nvPicPr>
        <p:blipFill>
          <a:blip r:embed="rId1"/>
          <a:stretch/>
        </p:blipFill>
        <p:spPr>
          <a:xfrm>
            <a:off x="66600" y="434880"/>
            <a:ext cx="8705880" cy="6053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odleTools has a section for making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Note card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ibliography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Outli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nnects to Google Doc to Create a Paper from your Outlin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 algn="ctr">
              <a:spcBef>
                <a:spcPts val="30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68200"/>
                </a:solidFill>
                <a:uFillTx/>
                <a:latin typeface="Century Gothic"/>
                <a:hlinkClick r:id="rId2"/>
              </a:rPr>
              <a:t>NoodleTools Overview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3e3d2d"/>
                </a:solidFill>
                <a:latin typeface="Century Gothic"/>
              </a:rPr>
              <a:t>(click on link)</a:t>
            </a:r>
            <a:endParaRPr b="0" lang="en-US" sz="12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   </a:t>
            </a:r>
            <a:br>
              <a:rPr sz="3600"/>
            </a:b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Basic Overview of NoodleTool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2T17:59:41Z</dcterms:created>
  <dc:creator>Margaret Cameron-Hickey</dc:creator>
  <dc:description/>
  <dc:language>en-US</dc:language>
  <cp:lastModifiedBy>Margaret Cameron-Hickey</cp:lastModifiedBy>
  <dcterms:modified xsi:type="dcterms:W3CDTF">2012-07-24T18:33:55Z</dcterms:modified>
  <cp:revision>68</cp:revision>
  <dc:subject/>
  <dc:title>Research Paper on a Physical Science Topic</dc:title>
</cp:coreProperties>
</file>